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43A-042D-42F9-858F-A60A5B93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FE0-90C1-4AA3-ACFB-89810B97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D3D-1154-4A2D-94A7-04DA8C00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D8E-D435-481F-8E9E-03E621B7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675-A187-4F93-95F2-65A8BF80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5D7B-81CD-4917-96F2-0B8DB2FE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2C6-2EAD-4039-BAF0-E91AD600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999-86DC-4579-BF4F-72972983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82E-E818-4CD2-807E-2BB50784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726-16D8-482E-87D2-A3BC55E2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E41-B817-497F-A4F5-B04BD34D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A7D-66CE-4401-8AAA-A64A346C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BD5E-E4E2-45B8-8EF2-22F5BE0A6F04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8.3 Ethical Health Care Pro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76092"/>
                </a:solidFill>
                <a:latin typeface="Calibri"/>
              </a:rPr>
              <a:t>A Future is yours to g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At this very mo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 ARE ALMOST </a:t>
            </a:r>
            <a:r>
              <a:rPr b="1" lang="en-CA" sz="3200" spc="-1" strike="noStrike">
                <a:solidFill>
                  <a:srgbClr val="ff0000"/>
                </a:solidFill>
                <a:latin typeface="Calibri"/>
              </a:rPr>
              <a:t>1700 ONTARIO RESIDENTS –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N, WOMEN AND CHILDREN, WHO ARE WAITING FOR A LIFE-SAVING ORGAN TRANS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AD REALITY IS THAT MANY DIE BEFORE A MATCHING ORGAN BECOMES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76092"/>
                </a:solidFill>
                <a:latin typeface="Calibri"/>
              </a:rPr>
              <a:t>A FUTURE IS YOURS TO G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THE ORGAN DONATION RATE IN ONTARIO I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Calibri"/>
              </a:rPr>
              <a:t>13 DONORS PER MILLION POPULATION,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S THAN HALF OF WHAT IT SHOULD BE.  THAT MEANS THAT PEOPLE WHO COULD LIVE- IF THEY HAD A NEW HEART, LUNG, LIVER, KIDNEY, PANCREAS OR SMALL BOWEL- SIT ON A WAITING LIST, HOPING FOR A DON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is the biggest problem facing transplantation toda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ir needs are not being met because of a lack of donated or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re than 4,000 Canadians are waiting for an organ transplant, and thousands more need a tissue trans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00 to 300 Canadians die each year because there are not enough donated or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OLM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izwana, Sara, Brandon, J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uying and sell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ublic Resources vs Personal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esumed Consent vs Informed Con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ssue #3- Medical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mbryo cloning-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uremburg Code (last in cold water, drinking only sea water, lungs bursting because of atmospheric press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uremburg Code- Informed Con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ssue #3- Medical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tem Cell Resear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Opens up the debate about what constitutes a hum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Researchers ask why they shouldn’t be able to use excess eybryos from IV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Religion- unethical to create human life and later destroy 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thical Issue #1 The Blood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2349360"/>
          <a:ext cx="8229600" cy="4248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lood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cip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 Blood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ident victims, surgical patients, people with 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el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ukemia patients, cancer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s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ients suffering from burns or sh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yoprecip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ople with hemophelia, people with other blood dis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5" name="Rectangle 5" descr=""/>
          <p:cNvPicPr/>
          <p:nvPr/>
        </p:nvPicPr>
        <p:blipFill>
          <a:blip r:embed="rId1"/>
          <a:stretch/>
        </p:blipFill>
        <p:spPr>
          <a:xfrm>
            <a:off x="182520" y="1365120"/>
            <a:ext cx="896796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thical Issue #1 The Blood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ntil 1980’s  the CRC (Canadian Red Cross) was the agency responsible for collecting, storing and distributing blood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the mid 1980’s over 1200 Canadians contracted HIV from blood or blood products supplied by the ag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thical Issue #1 The Blood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addition some were infected with   Hepatitis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y hadn’t the CRC been able to ensure the safety of the blood supp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ny of the problems were from the screening pro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thical Issue #1 The Blood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CRC was unwilling to continue in the role if blood provider when it became obvious that greater government oversight was going to be implem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profit compan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ovincial or Federal Govern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dependent agency responsible to the gov’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thical Issue #1 The Blood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the end a new agency, funded by the federal and provincial governments , but independent of them, took over in 1998 (Canadian Blood Services [CBS]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thical Issue #2 Organ Harve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Video: One Life…Many Gif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ractical Issue: relates to grieving families and how we define dea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octors usually use the absence of brain waves as evidence of dea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Families could use the heart beating as a sign of life even though loss of brain wa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thical Issue #2 Organ Harve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thical Issue: Who owns the organs in qu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GLF Trillium Gift of Life Foun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76092"/>
                </a:solidFill>
                <a:latin typeface="Calibri"/>
              </a:rPr>
              <a:t>A future is yours to g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There is a crisis in Ontari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VERY 3 DAYS, SOMEONE IN THE PROVINCE DIES UNNECESSARILY </a:t>
            </a:r>
            <a:r>
              <a:rPr b="0" lang="en-CA" sz="4400" spc="-1" strike="noStrike">
                <a:solidFill>
                  <a:srgbClr val="ff0000"/>
                </a:solidFill>
                <a:latin typeface="Calibri"/>
              </a:rPr>
              <a:t>WHILE WAITING FOR AN ORGAN TRANSPL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09:23Z</dcterms:created>
  <dc:creator>Jason</dc:creator>
  <dc:description/>
  <dc:language>en-US</dc:language>
  <cp:lastModifiedBy>Jason</cp:lastModifiedBy>
  <dcterms:modified xsi:type="dcterms:W3CDTF">2011-05-25T16:11:21Z</dcterms:modified>
  <cp:revision>6</cp:revision>
  <dc:subject/>
  <dc:title>PowerPoint Presentation</dc:title>
</cp:coreProperties>
</file>